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2.png" ContentType="image/png"/>
  <Override PartName="/ppt/media/image7.wmf" ContentType="image/x-wmf"/>
  <Override PartName="/ppt/media/image11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95B-E1D6-4AEF-8267-5CD3483A07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0324-00EE-4207-8A00-B90F71016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BE0-8B07-45C9-9F44-FBC690AF7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C4F213-1202-4757-B277-3453302A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257D-DC6B-47D0-9103-3D4341959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3BD7F6B-88A8-4995-8641-EE2D5217C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46630C-05C9-45EA-AEA9-C7C8FDEE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238BD8-E106-4933-865C-FCD2DD12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1A18B9-401E-4E3D-918E-9FA9EB0CA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7D9980-718D-4029-840F-343A7D8A0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4230-1036-4525-98EF-E1B8A5C68F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FBDF-2C0B-499B-86E7-C7142472BD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4B8BF-4DFA-439A-9AEA-FE56F4F39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516F0-471C-489D-B68A-EE5AB857B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5552-8646-4385-AC1A-2C526F7AE5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B72-DFF9-4AAE-A5D3-28323CB99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C89B-B74F-4ECE-8DE9-1AD2F61F36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359-BA9C-4B48-A371-35E3CB20BB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6005-9820-443C-BFB0-FA75499B7F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8216-0FF0-4BF7-BC71-20053FCBB0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F5C-FF60-43EE-B4A3-FA2934EFCA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903D-F29D-4128-98E8-C20CE9786B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A74A3-D86A-419D-AB7E-F12431544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6A2-9F19-4097-B616-6F026CAE7D4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2EE6-EEF0-45CE-AEFE-1E002E2AAE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341-1AF7-4616-9CFF-1A8287594A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F78-CFD9-45C5-A218-BD1449C765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5EA-C340-4FAB-9222-E943C51BB3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6E261-5B70-436E-AA37-28416A776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AC633-4E9D-4269-9545-8A2BC4C34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C40C-27AA-4DAF-9CE5-AA84A90E4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04E5B-73EA-44E5-8FBD-641A20303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BD645-54FE-4D8C-A5A3-0712D2BB0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DA699-1005-45BC-8349-F329B5CEF4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725E-E7C3-4FA7-B2A5-6B0D95AF1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au Contrôle de la Qualitél-Modul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CA27-3F2F-4DD0-BD40-5E40EBFDBA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DB8-0A70-48F2-95D5-4D41BB6356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85DD-E838-4CC7-998D-3A46E4252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819520" y="1447920"/>
            <a:ext cx="6172200" cy="28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Introduction au Contrô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0D05-E4B0-4A5F-AA3A-35B502B47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C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rtie importante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but est de détecter les erreurs et les éliminer avant que les résultats ne soient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fférents processus de CQ sont appliqués pour contrôler les examens quantitatifs, qualitatifs et semi quantitatif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6022-0D7E-4C8E-BFC5-DB7851EE42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562720" y="762120"/>
            <a:ext cx="35812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990720"/>
            <a:ext cx="4647960" cy="4460760"/>
          </a:xfrm>
          <a:prstGeom prst="rect">
            <a:avLst/>
          </a:prstGeom>
          <a:ln w="0">
            <a:noFill/>
          </a:ln>
        </p:spPr>
      </p:pic>
      <p:sp>
        <p:nvSpPr>
          <p:cNvPr id="19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F2D8-94B9-40C0-85AD-EC89E3434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u module, les participants seront en mesure d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contrôle qualité et décrire sa relation avec le système général de gestion de la quali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re les différences existantes entre les tests quantitatifs, semi quantitatifs et qualitatif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C874-CEE7-4434-81C9-D4B2E9A900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36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  <p:sp>
        <p:nvSpPr>
          <p:cNvPr id="137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B110-A02E-4320-B7B5-9BDE69F26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é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Contrôle Qualité (CQ)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st la  partie de la gestion de la qualité se concentrant sur les exigences qualité à remplir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(ISO 9000:2000, 3.2.1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l s’agit d’examiner un matériel de « contrôle » de nature connue, avec les échantillons, pour vérifier la justesse et la précision du processus analytique dans son ensembl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C9C2-831E-433A-B74C-093A7E9F9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u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16765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ffff00"/>
                </a:solidFill>
                <a:latin typeface="Verdana"/>
              </a:rPr>
              <a:t>Le but du CQ est de détecter les erreurs et de les corriger avant que les résultats du patient ne soient rendu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E249-4D73-4268-AA8F-343373BAAB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s quantita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es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la quantité d’une substance particulière dans un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9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50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51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3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mesures devraient être exactes et pré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8" descr="10040_lores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161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0137-8E55-4F65-B939-E14B09A069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éthodes d’analyse qualitativ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nalyses qui ne donnent pas de résultats numériqu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oissance ou pas de croiss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itif ou nég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ctif ou non réactif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ment de cou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8" descr="qc_growth_poor_growth_cdc"/>
          <p:cNvPicPr/>
          <p:nvPr/>
        </p:nvPicPr>
        <p:blipFill>
          <a:blip r:embed="rId1"/>
          <a:stretch/>
        </p:blipFill>
        <p:spPr>
          <a:xfrm>
            <a:off x="6781680" y="1828800"/>
            <a:ext cx="2230560" cy="149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pos_neg-urease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qc_pos_neg_latex_agglut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168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8322-82CD-4C42-9CD1-E43A397B96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éthodes d’analyse semi quantitativ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1520" indent="-28152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sultats sont exprimés par une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estimatio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de la quantité présente de la substance mesurée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ce”, “quantité modérée,” ou “1+, 2+ ou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bre de cellules vues par champ au microscop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520" indent="-28152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itres et dilutions dans les tests sérologiq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A71B-084B-41A8-B2AC-118E26F27F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609480"/>
            <a:ext cx="8458200" cy="5638680"/>
            <a:chOff x="457200" y="609480"/>
            <a:chExt cx="8458200" cy="5638680"/>
          </a:xfrm>
        </p:grpSpPr>
        <p:grpSp>
          <p:nvGrpSpPr>
            <p:cNvPr id="175" name="Group 6"/>
            <p:cNvGrpSpPr/>
            <p:nvPr/>
          </p:nvGrpSpPr>
          <p:grpSpPr>
            <a:xfrm>
              <a:off x="457200" y="609480"/>
              <a:ext cx="8381520" cy="5638680"/>
              <a:chOff x="457200" y="609480"/>
              <a:chExt cx="8381520" cy="5638680"/>
            </a:xfrm>
          </p:grpSpPr>
          <p:sp>
            <p:nvSpPr>
              <p:cNvPr id="176" name="AutoShape 5"/>
              <p:cNvSpPr/>
              <p:nvPr/>
            </p:nvSpPr>
            <p:spPr>
              <a:xfrm>
                <a:off x="457200" y="609480"/>
                <a:ext cx="8381520" cy="563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_s10255"/>
              <p:cNvSpPr/>
              <p:nvPr/>
            </p:nvSpPr>
            <p:spPr>
              <a:xfrm flipH="1">
                <a:off x="265752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_s10254"/>
              <p:cNvSpPr/>
              <p:nvPr/>
            </p:nvSpPr>
            <p:spPr>
              <a:xfrm>
                <a:off x="666720" y="2759040"/>
                <a:ext cx="1990440" cy="133884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Revue d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données</a:t>
                </a:r>
                <a:br>
                  <a:rPr sz="2800"/>
                </a:br>
                <a:r>
                  <a:rPr b="1" lang="fr-FR" sz="2800" spc="-1" strike="noStrike">
                    <a:solidFill>
                      <a:srgbClr val="000000"/>
                    </a:solidFill>
                    <a:latin typeface="Verdana"/>
                  </a:rPr>
                  <a:t> CQ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_s10253"/>
              <p:cNvSpPr/>
              <p:nvPr/>
            </p:nvSpPr>
            <p:spPr>
              <a:xfrm>
                <a:off x="4647960" y="40982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_s10252"/>
              <p:cNvSpPr/>
              <p:nvPr/>
            </p:nvSpPr>
            <p:spPr>
              <a:xfrm>
                <a:off x="3652560" y="4767840"/>
                <a:ext cx="1990440" cy="133956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Assurer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une 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documentation</a:t>
                </a:r>
                <a:br>
                  <a:rPr sz="1900"/>
                </a:br>
                <a:r>
                  <a:rPr b="1" lang="fr-FR" sz="1900" spc="-1" strike="noStrike">
                    <a:solidFill>
                      <a:srgbClr val="000000"/>
                    </a:solidFill>
                    <a:latin typeface="Verdana"/>
                  </a:rPr>
                  <a:t>complète</a:t>
                </a: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_s10251"/>
              <p:cNvSpPr/>
              <p:nvPr/>
            </p:nvSpPr>
            <p:spPr>
              <a:xfrm>
                <a:off x="5643000" y="3428640"/>
                <a:ext cx="995040" cy="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_s10250"/>
              <p:cNvSpPr/>
              <p:nvPr/>
            </p:nvSpPr>
            <p:spPr>
              <a:xfrm>
                <a:off x="6638400" y="2759040"/>
                <a:ext cx="1990800" cy="133884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Formez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tout le</a:t>
                </a:r>
                <a:br>
                  <a:rPr sz="2400"/>
                </a:br>
                <a:r>
                  <a:rPr b="1" lang="fr-FR" sz="2400" spc="-1" strike="noStrike">
                    <a:solidFill>
                      <a:srgbClr val="000000"/>
                    </a:solidFill>
                    <a:latin typeface="Verdana"/>
                  </a:rPr>
                  <a:t> personne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_s10249"/>
              <p:cNvSpPr/>
              <p:nvPr/>
            </p:nvSpPr>
            <p:spPr>
              <a:xfrm flipV="1">
                <a:off x="4647960" y="2089440"/>
                <a:ext cx="0" cy="66924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_s10248"/>
              <p:cNvSpPr/>
              <p:nvPr/>
            </p:nvSpPr>
            <p:spPr>
              <a:xfrm>
                <a:off x="3652560" y="750600"/>
                <a:ext cx="1990440" cy="133884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Créer des lign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de conduite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 et procédures</a:t>
                </a:r>
                <a:br>
                  <a:rPr sz="1600"/>
                </a:br>
                <a:r>
                  <a:rPr b="1" lang="fr-FR" sz="1600" spc="-1" strike="noStrike">
                    <a:solidFill>
                      <a:srgbClr val="000000"/>
                    </a:solidFill>
                    <a:latin typeface="Verdana"/>
                  </a:rPr>
                  <a:t>écri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_s10247"/>
              <p:cNvSpPr/>
              <p:nvPr/>
            </p:nvSpPr>
            <p:spPr>
              <a:xfrm>
                <a:off x="3652560" y="2759040"/>
                <a:ext cx="1990440" cy="1338840"/>
              </a:xfrm>
              <a:prstGeom prst="rect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>
                    <a:alpha val="7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 Box 16"/>
            <p:cNvSpPr/>
            <p:nvPr/>
          </p:nvSpPr>
          <p:spPr>
            <a:xfrm>
              <a:off x="2819520" y="2590920"/>
              <a:ext cx="3733560" cy="2000520"/>
            </a:xfrm>
            <a:prstGeom prst="rect">
              <a:avLst/>
            </a:prstGeom>
            <a:gradFill rotWithShape="0">
              <a:gsLst>
                <a:gs pos="0">
                  <a:srgbClr val="996600"/>
                </a:gs>
                <a:gs pos="100000">
                  <a:srgbClr val="00007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00"/>
                  </a:solidFill>
                  <a:latin typeface="Verdana"/>
                </a:rPr>
                <a:t>Étapes du programme de CQ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17"/>
            <p:cNvSpPr/>
            <p:nvPr/>
          </p:nvSpPr>
          <p:spPr>
            <a:xfrm>
              <a:off x="5791320" y="1219320"/>
              <a:ext cx="1295280" cy="609480"/>
            </a:xfrm>
            <a:prstGeom prst="pi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>
              <a:off x="7162920" y="990720"/>
              <a:ext cx="1752480" cy="916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inclure les actions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corr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Espace réservé du pied de page 1"/>
          <p:cNvSpPr/>
          <p:nvPr/>
        </p:nvSpPr>
        <p:spPr>
          <a:xfrm>
            <a:off x="38088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tion au Contrôle Qualité - Modul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4:13:11Z</dcterms:created>
  <dc:creator>Owner</dc:creator>
  <dc:description/>
  <dc:language>en-US</dc:language>
  <cp:lastModifiedBy>dolmazonv</cp:lastModifiedBy>
  <dcterms:modified xsi:type="dcterms:W3CDTF">2010-04-07T16:09:49Z</dcterms:modified>
  <cp:revision>52</cp:revision>
  <dc:subject/>
  <dc:title>Quality Control Overview</dc:title>
</cp:coreProperties>
</file>